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suction.wav" ContentType="audio/x-wav"/>
  <Override PartName="/ppt/media/image9.png" ContentType="image/png"/>
  <Override PartName="/ppt/media/image1.png" ContentType="image/png"/>
  <Override PartName="/ppt/media/image3.jpeg" ContentType="image/jpeg"/>
  <Override PartName="/ppt/media/bomb.wav" ContentType="audio/x-wav"/>
  <Override PartName="/ppt/media/image6.png" ContentType="image/png"/>
  <Override PartName="/ppt/media/camera.wav" ContentType="audio/x-wav"/>
  <Override PartName="/ppt/media/image4.png" ContentType="image/png"/>
  <Override PartName="/ppt/media/cashreg.wav" ContentType="audio/x-wav"/>
  <Override PartName="/ppt/media/image2.gif" ContentType="image/gif"/>
  <Override PartName="/ppt/media/image5.png" ContentType="image/png"/>
  <Override PartName="/ppt/media/breeze.wav" ContentType="audio/x-wav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AB1-D582-4172-8019-43866972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854-5790-4332-848F-F0FCD0E2C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83E-1793-4EE0-96A4-7EFEC91694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775-A145-436E-9653-A8DCD6850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A1C-FDE3-4FA1-892A-A685CC375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2D4-21AE-436E-A521-5827F2EEB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C0A-8EE7-46E0-A024-F31CB78C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58F-D0CF-4C05-A9F7-69B2560C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3E1-189F-4E98-9154-C138606A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B5E-0963-4474-8A77-1EED96CD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EE8-1937-4FAB-AE14-17512414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F7A-28CB-4839-8939-8E8CD9F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226F-71D6-409D-BD26-129271C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961-B470-40A0-85FF-C2914CF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643C-4749-44B1-B10E-7DD46273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CE2-6FDA-4004-954B-31F0F270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730-F1D1-4723-A77E-0CAAF52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720-45DF-4EBD-A8EB-D7EF0A9A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ED7-715F-49CC-8789-2430EBA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65E9-DA3F-488D-A654-253BDE7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290-559A-450D-BD4B-4B1E688D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E8E-FDA2-4DF4-8EC9-8565F72F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F39F-9B77-417B-999F-C2B0E4BD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E2C-8AFC-4B1F-8AA6-2A9193A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F9F-D118-40FA-8425-25094BA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602-7AED-445C-9A94-F653B4F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774-5B66-4845-8B46-66DCB757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F3B-C517-44BA-83BD-8782173B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425-626D-49AE-992D-B6F36E0F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4ED-0D25-418A-820E-F642CE9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E858-FBE9-464B-96D8-CA87437BD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53D-5034-4FB3-8B46-811965D8A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USE OF REP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</a:t>
            </a:r>
            <a:r>
              <a:rPr b="1" i="1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term limit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Bar dir="vert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Please write the THREE qualifications for becoming a member of the House of Representat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666880" y="3465360"/>
            <a:ext cx="333072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wheel spokes="1"/>
    <p:sndAc>
      <p:stSnd>
        <p:snd r:embed="rId4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number of members of the House of Representatives is fixed at _____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2033640" y="3886200"/>
            <a:ext cx="507672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ircle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168200"/>
            <a:ext cx="80769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is YOUR Congressma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206880" y="2895480"/>
            <a:ext cx="27302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l"/>
    <p:sndAc>
      <p:stSnd>
        <p:snd r:embed="rId3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Congressional District for Oak Ridge, T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685800" y="3038400"/>
            <a:ext cx="7772400" cy="200016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fade/>
    <p:sndAc>
      <p:stSnd>
        <p:snd r:embed="rId3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0T15:07:09Z</dcterms:modified>
  <cp:revision>141</cp:revision>
  <dc:subject/>
  <dc:title>D/O: TO EXPLAIN AND IDENTIFY PROBLEMS OF ECONOMICS</dc:title>
</cp:coreProperties>
</file>